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54F-E0B7-4B29-8B38-21D5E5F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1F6-1314-4433-9344-941FC7D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234-8AC0-4A8A-8C0F-59CCF75F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782-57F1-4155-8F03-846FB717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BAF-BFB4-4CB3-8A37-32F2419A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DC86-AE1A-4DD3-86CD-E5821AC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CF3-320A-4E64-9153-B306CBC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F7A-1183-45DD-8906-BCB1E5E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6F7A-1B22-4A22-8F33-1F174C0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5525-98E3-4740-945A-4FA30FEE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EA1-6EEF-413B-826B-80152D8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DD3-29F7-4C83-B936-CFE32EAD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178-9F92-4A08-8D0D-4CCA70E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8D80-44BD-4A8D-9092-F1ABDF2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5EFA-4928-4AEB-9B0E-4302DF0A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0472-A794-4996-89A2-9ED6720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03B5-B849-4C56-A9C3-B262C608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404-52DD-47EE-A78D-F23EBC6A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F4F-4B93-454A-9969-01311D26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31C-19FE-4931-AE69-B8051F2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245-6AA5-44AF-88A3-BACFD1C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2AC-E8FC-4F3A-8AEF-8DA0667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045-11E5-455C-B05F-6F6E50E6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E84-762C-4035-9E90-DB4D778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5AC-0CAF-460E-A547-C74D608875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5167800" y="108000"/>
            <a:ext cx="2243520" cy="2649960"/>
            <a:chOff x="5167800" y="108000"/>
            <a:chExt cx="2243520" cy="2649960"/>
          </a:xfrm>
        </p:grpSpPr>
        <p:grpSp>
          <p:nvGrpSpPr>
            <p:cNvPr id="39" name=""/>
            <p:cNvGrpSpPr/>
            <p:nvPr/>
          </p:nvGrpSpPr>
          <p:grpSpPr>
            <a:xfrm>
              <a:off x="5167800" y="108000"/>
              <a:ext cx="2243520" cy="2649960"/>
              <a:chOff x="5167800" y="108000"/>
              <a:chExt cx="2243520" cy="26499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5167800" y="108000"/>
                <a:ext cx="2243520" cy="2395440"/>
                <a:chOff x="5167800" y="108000"/>
                <a:chExt cx="2243520" cy="2395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5842440" y="207360"/>
                  <a:ext cx="32364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5886720" y="903240"/>
                  <a:ext cx="569160" cy="5212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5551560" y="798480"/>
                  <a:ext cx="1068120" cy="10692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5487840" y="581040"/>
                  <a:ext cx="160344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6229440" y="1952640"/>
                  <a:ext cx="35712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6171480" y="177048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5852520" y="511560"/>
                  <a:ext cx="38268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5809680" y="362880"/>
                  <a:ext cx="37836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800600" cy="30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14DF-CBA5-496B-9066-926581E197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93" name="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7" name="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5684400" y="5833440"/>
            <a:ext cx="1062720" cy="1393920"/>
            <a:chOff x="5684400" y="5833440"/>
            <a:chExt cx="1062720" cy="1393920"/>
          </a:xfrm>
        </p:grpSpPr>
        <p:sp>
          <p:nvSpPr>
            <p:cNvPr id="103" name="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5759640" y="6286680"/>
              <a:ext cx="88128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684400" y="5833440"/>
              <a:ext cx="1062720" cy="1393920"/>
              <a:chOff x="5684400" y="5833440"/>
              <a:chExt cx="1062720" cy="13939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5509440" y="6345000"/>
                <a:ext cx="1412280" cy="3704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5808240" y="6424200"/>
                <a:ext cx="999720" cy="209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6357240" y="6135840"/>
                <a:ext cx="132840" cy="1404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6026040" y="6396480"/>
                <a:ext cx="408600" cy="1234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457200"/>
            <a:ext cx="51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ding &amp; Re-Barco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inry R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57440" y="2990880"/>
            <a:ext cx="2829240" cy="37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2828880" cy="189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2895840" cy="1873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175248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l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724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w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2362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w video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7:26:50Z</dcterms:created>
  <dc:creator>debbiem11</dc:creator>
  <dc:description/>
  <dc:language>en-US</dc:language>
  <cp:lastModifiedBy>debbiem11</cp:lastModifiedBy>
  <dcterms:modified xsi:type="dcterms:W3CDTF">2010-11-18T18:18:44Z</dcterms:modified>
  <cp:revision>3</cp:revision>
  <dc:subject/>
  <dc:title>Slide 1</dc:title>
</cp:coreProperties>
</file>